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C00-AE54-4D4C-90F7-DD01957E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113-A8D8-4727-8C5B-0F628A9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04A-2E00-4A7D-8350-2210BF09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F01-AAAF-40AA-979C-D4D4BC3F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9F1-9E10-4EE6-A8A3-30F6E81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8E7-C3B4-4930-8C2E-2010E2FE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972-143B-49D2-B265-D73CEB7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523-115F-4028-9EF9-5E97DB7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729-B2EC-4D80-A62C-65A36BD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9EA-46EE-472E-A154-D7E7B56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13B-0F81-4CB4-BBBC-3010707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435-7F7F-4BD0-9508-F9E32AA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   </a:t>
            </a:r>
            <a:fld id="{0805E326-0A03-45B3-AAF0-689F60B8C48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ocionek,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Jan 30t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R&amp;D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- An alternative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141-3D90-46A5-A310-F2FBC0F353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63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Some Thoughts on role-based R&amp;D Re-organ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202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Idea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Take out „non-productive“ rol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duce amount of specialization, and try utilizing more „generalists“ of highest competencies (supports Scrum team needs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Approach: Structure R&amp;D in two main categor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Production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develop that develop (parts of) the produc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I desigers who define UI and usabilit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crum teams who write software (device layer, middleware, components, applications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rchitecture teams that design the system (HW, SW, MD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lanning and integration teams (release plans, sprint plans, etc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D and HW teams that design layouts, produce prototypes, build samples, etc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Service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support the activities of the production cente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fig &amp; Build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ystem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MV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IT infrastructur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Training and educa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tract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Next step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eam to categorize all staff in production and service contributo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o identify all people who are not needed for either catego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7886880" y="5410080"/>
            <a:ext cx="1104840" cy="6858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82F-9A83-43FE-9531-962DC928AC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660-C0C3-49BE-B8CC-CA0D5301851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30T08:27:47Z</dcterms:modified>
  <cp:revision>288</cp:revision>
  <dc:subject/>
  <dc:title>PowerPoint 簡報</dc:title>
</cp:coreProperties>
</file>